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CF1E-2A5B-42A2-959E-E7573FA36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AE6B-C351-45D5-A15E-2229D629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DFAB-7B65-47D0-9969-3A71B1095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5DA2-6177-4D43-8F88-676CAEAE8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FA26-41AC-491B-A376-90796753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C78C-2446-416F-B190-6CAE76E4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97F7-E2D3-4152-874A-9C58D16A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663F-56F1-4352-88CF-56E7A466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20C1-D39F-4006-B31B-555FC79C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E0DF-09C2-4907-BBB0-2A4F402F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8C34-9D51-44F0-85F9-BDEF2EB9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F07F-9032-478D-800A-590A167D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AC29-5803-4C7F-8612-55E9A193D8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ric Carle’s book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95480" y="1219320"/>
            <a:ext cx="3203640" cy="41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29000" y="1600200"/>
            <a:ext cx="245736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666880" y="1871640"/>
            <a:ext cx="4343400" cy="3065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1T17:36:38Z</dcterms:created>
  <dc:creator>Sandra Roby</dc:creator>
  <dc:description/>
  <dc:language>en-US</dc:language>
  <cp:lastModifiedBy>Sandra Roby</cp:lastModifiedBy>
  <dcterms:modified xsi:type="dcterms:W3CDTF">2008-01-01T17:37:07Z</dcterms:modified>
  <cp:revision>2</cp:revision>
  <dc:subject/>
  <dc:title>Eric Carle’s books</dc:title>
</cp:coreProperties>
</file>